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0D8D1-9D80-46CF-BD69-1E2EDA5A7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525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534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520" y="4041360"/>
            <a:ext cx="8534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5F4DD-4F65-49FA-9C1C-5047178B6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525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54160" y="12949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520" y="404136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54160" y="404136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4A0B4-D793-437D-A534-87EA80B8F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525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6280" y="129492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51680" y="129492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520" y="404136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6280" y="404136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51680" y="404136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B51C4-62AB-426D-B6D4-3487DEB8E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BF5AE-850C-409E-978C-119A3A21B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525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3291A-EFAB-4106-A456-81A15B47F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525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B4969-E016-44F9-8838-7C9E6D64C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525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54160" y="129492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F72A7-3B10-4654-9A54-5889937DD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525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378AC-FFB9-4ABF-B1A2-B17DD8585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52516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B1942-CB59-4617-AB95-591420AD3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525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54160" y="129492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80520" y="404136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11DFB-1E27-452E-9B09-B266C0177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525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182E9-39A4-419E-B8F1-1B44F856F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525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54160" y="12949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54160" y="404136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1EDA1-8EB6-4DFB-96CB-B10C2EAFB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525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54160" y="12949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4041360"/>
            <a:ext cx="8534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517E7-1888-4C1E-8F7C-0BAFAEAF7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525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534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0520" y="4041360"/>
            <a:ext cx="8534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47CC6-B235-49B3-A1D9-38FEB639D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525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54160" y="12949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520" y="404136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54160" y="404136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E986F-E102-4183-A84B-FB69DF8C5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525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66280" y="129492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51680" y="129492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80520" y="404136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66280" y="404136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51680" y="4041360"/>
            <a:ext cx="274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41898-4915-4487-8300-AE7D17399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525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6A4EE-DA57-4E6C-8572-D0FA42BBB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525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54160" y="129492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4A46C-C1C2-4BF7-8CD7-4103DDACC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525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6094C-F75D-492C-9BFC-D1FB8CB9A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52516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FE339-2457-4FDE-A90B-D756C9A3B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525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54160" y="129492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520" y="404136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5205E-4D6C-42F4-B444-93A9776E9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525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4164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4160" y="12949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54160" y="404136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9B31D-7789-486F-9F01-9D19C1E7B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525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54160" y="1294920"/>
            <a:ext cx="4164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520" y="4041360"/>
            <a:ext cx="8534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5FDE1-5C78-4CBD-A73E-3DF752E7C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525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80808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80808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80808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D3416-9E53-4FDF-8B70-2C46F8D071DD}" type="slidenum"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920" y="5028840"/>
            <a:ext cx="8686800" cy="9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80808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80808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80808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4EE04-5C7C-47F2-AB47-BDB44C4F46AB}" type="slidenum"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8080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8080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8080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starfall.com/" TargetMode="Externa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2.scholastic.com/" TargetMode="Externa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2.scholastic.com/browse/learn.jsp" TargetMode="External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reading.ecb.org/index.html" TargetMode="External"/><Relationship Id="rId3" Type="http://schemas.openxmlformats.org/officeDocument/2006/relationships/hyperlink" Target="http://reading.ecb.org/index.html" TargetMode="External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internet4classrooms.com/" TargetMode="External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800240"/>
            <a:ext cx="8686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Integrating Technology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Into the Classroom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usan Ikemoto &amp; Mary Mort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525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genda &amp; Objectiv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28240" y="1219320"/>
            <a:ext cx="8915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Introductions and Overview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80808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A few of our favorites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80808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Time to explore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80808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hare discoveries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Objective: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Participants will be introduced to several websites that support state standards and engage students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525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Tahoma"/>
                <a:hlinkClick r:id="rId2"/>
              </a:rPr>
              <a:t>www.starfall.com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457200" y="1295280"/>
            <a:ext cx="85345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525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Tahoma"/>
                <a:hlinkClick r:id="rId2"/>
              </a:rPr>
              <a:t>www2.scholastic.com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457200" y="1295280"/>
            <a:ext cx="85345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525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Tahoma"/>
                <a:hlinkClick r:id="rId2"/>
              </a:rPr>
              <a:t>“Student Activities” tab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304920" y="1295280"/>
            <a:ext cx="853416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525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Tahoma"/>
                <a:hlinkClick r:id="rId2"/>
              </a:rPr>
              <a:t>http://</a:t>
            </a:r>
            <a:r>
              <a:rPr b="0" lang="en-US" sz="4400" spc="-1" strike="noStrike" u="sng">
                <a:solidFill>
                  <a:srgbClr val="ffffff"/>
                </a:solidFill>
                <a:uFillTx/>
                <a:latin typeface="Tahoma"/>
                <a:hlinkClick r:id="rId3"/>
              </a:rPr>
              <a:t>reading.ecb.org/index.html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457200" y="1219320"/>
            <a:ext cx="85345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8763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Tahoma"/>
                <a:hlinkClick r:id="rId2"/>
              </a:rPr>
              <a:t>http://www.internet4classrooms.com/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457200" y="1295280"/>
            <a:ext cx="85345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525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ime to Explor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-591120">
              <a:spcBef>
                <a:spcPts val="901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80808"/>
                </a:solidFill>
                <a:latin typeface="Tahoma"/>
              </a:rPr>
              <a:t>Objectives:</a:t>
            </a:r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  <a:p>
            <a:pPr lvl="2" marL="1330200" indent="-443160">
              <a:spcBef>
                <a:spcPts val="799"/>
              </a:spcBef>
              <a:buClr>
                <a:srgbClr val="000066"/>
              </a:buClr>
              <a:buSzPct val="7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Find at least three activities that you can use with your students tomorrow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2" marL="133020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2" marL="1330200" indent="-443160">
              <a:spcBef>
                <a:spcPts val="799"/>
              </a:spcBef>
              <a:buClr>
                <a:srgbClr val="000066"/>
              </a:buClr>
              <a:buSzPct val="75000"/>
              <a:buFont typeface="Tahoma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Review accessing the student share drive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2" marL="133020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2" marL="1330200" indent="-443160">
              <a:spcBef>
                <a:spcPts val="799"/>
              </a:spcBef>
              <a:buClr>
                <a:srgbClr val="000066"/>
              </a:buClr>
              <a:buSzPct val="75000"/>
              <a:buFont typeface="Tahoma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Practice making desktop shortcuts to websites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2" marL="133020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22T06:47:48Z</dcterms:created>
  <dc:creator>Susan.Ikemoto</dc:creator>
  <dc:description/>
  <cp:keywords/>
  <dc:language>en-US</dc:language>
  <cp:lastModifiedBy>Susan.Ikemoto</cp:lastModifiedBy>
  <dcterms:modified xsi:type="dcterms:W3CDTF">2009-01-04T21:13:12Z</dcterms:modified>
  <cp:revision>8</cp:revision>
  <dc:subject/>
  <dc:title>Integrating Technology  Into the Classro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408351033</vt:lpwstr>
  </property>
</Properties>
</file>